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9F7-FD7B-4D70-8A47-83A7EA03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3AC-5511-4053-B2FE-9FF6E5BF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D28-5932-4669-AADE-CA931CE3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024-FA53-4098-BD21-A2764B54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2E19-E459-4E22-8A7B-032FB048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C727-F832-48B9-B737-64AAABC5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7751-2E8C-4C7E-9D49-982AAA3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AD1-83E6-4BA6-8E27-43AD07C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C978-41C4-417A-A857-4A1C998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63F6-3BA6-4057-8A2B-AC1E1B6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62F8-5FAC-4379-AEA8-EC93093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86D-A3FA-44F3-AEC0-5414118E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6176-4A5E-470B-B180-2E970765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A206-0180-4D6A-9675-2E26507C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9CDE-B95C-4323-A72F-7040A81B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860-F1F8-429D-B4ED-D625AD3E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E138-C7AE-4DCA-B058-3C944566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50B8-E9D1-4659-A303-AABFC062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E4E2-B11B-46FE-BC4A-A6EDC29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AD9D-3E6D-4DB4-AECE-A690105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DABB-2E4E-4D78-8B03-9C608895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ED37-1834-4A50-B161-DCBBFC16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F39-19FE-488E-B8BE-7051262C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7AB0-358D-4091-B39B-A115F31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EA9E-F812-4C62-B00C-11A8D08A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2723F-B022-425F-8D7E-205B103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3AFD-7975-4AFC-A4F0-7162B3D2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08E8-C170-4045-82E3-CEFB8F54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5C43-BA33-49B6-AD6D-4CE8FCB2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B65D-026A-4DA0-81B3-98AA9272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EDECD-6159-4795-93D8-7D121A4D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11388-4492-47D5-A9B1-7C0AB5E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E31E0-DBDB-4C2F-A308-FA0018C9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E2B-B7D6-45CD-B08E-17CFA06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19CB5-C2EB-4474-A587-675CB3DA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97225-C754-4FD6-896D-8145C90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D8B54-6466-4716-99E4-7A60A604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3A387-C980-4C59-8F01-3E11162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C3D10-0B86-4028-AD91-FB02820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989DC-C29E-44F5-B4C8-BF9F4BF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393E8-08A9-4A35-AE13-E4CFC958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F45E7-EBCD-4A7B-9C43-0F2A5A8B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052F9-FFAD-45E8-94AA-09C45621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D9E0-246C-4F6A-9B12-1723827E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0F9-8C38-4EF3-AC37-0C64C1A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8442E-9A74-4FF6-AC01-A52742E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875A-D9FB-464C-9485-9E23EAC2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162E-6A4A-4DF7-B8C0-D69F49C5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CA11-75A5-49DD-B3BB-145E9AB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641D-105F-4233-B3E7-DDAD92E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08C5-9DEF-42AB-ADA0-299833C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2355-2F72-413A-A04A-720FA47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7C91-6516-4592-8927-8EA20A0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5E47-0AA2-4845-A136-F500E2C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218B8-289E-4606-89C4-00E47082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3F9-4BB4-4C82-B6F1-537C3034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C0AE-43B5-4C5D-B8BC-2D2542B3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4A1AC-423E-42F9-B9C4-24D4AB4B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D9AAE-FEBA-473D-80CA-E39DDCDF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7658-365E-4F69-A7F4-811E51E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6DB9C-A1AA-4BC7-A2EB-AAFAAF0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0E82-A07C-470A-BCBC-EC91F56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288E-B9DA-47CA-BC8F-E54CC91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34E6E-3168-498F-AC5E-F30EAA2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2A4EC-B716-4098-888B-662AB42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7F98-FB32-401B-B878-DF9E5AE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5BE-A2F3-4A62-BDC0-B863701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D81A-07E9-4E3B-B22C-D111DE0A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CFD2-C97B-4FBF-AA0E-C9F7FCDB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CC3B4-CF53-4A26-B619-B9FDA122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B56-DBAC-4495-8FEF-A70FD9C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4B0-0884-40A1-AF28-1030ED7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09D3-C1C9-4ACE-BAE1-1C43AD3B9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8F9C-99D5-4760-A6B7-66C9AA227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84E1-F9BD-4B7E-86C5-86104DCDD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C3B-DF26-49CE-AE50-17A1125D1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3423-7CDC-4E44-982D-234361655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C777-B830-41D4-916E-CAA574BE3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cc00"/>
                </a:solidFill>
                <a:latin typeface="Times New Roman"/>
              </a:rPr>
              <a:t>Mi gran viaje a la Argentin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: Alec D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rimer 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c600"/>
                </a:solidFill>
                <a:latin typeface="Tahoma"/>
              </a:rPr>
              <a:t>Mi gran ho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590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El balnear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4:05Z</dcterms:created>
  <dc:creator>dalyale</dc:creator>
  <dc:description/>
  <dc:language>en-US</dc:language>
  <cp:lastModifiedBy>dalyale</cp:lastModifiedBy>
  <dcterms:modified xsi:type="dcterms:W3CDTF">2011-11-18T16:47:15Z</dcterms:modified>
  <cp:revision>2</cp:revision>
  <dc:subject/>
  <dc:title>Mi gran viaje a la Argentina</dc:title>
</cp:coreProperties>
</file>